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A69F-176E-4295-9D14-65226DA0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0F5-026E-48D2-AA58-256E75A02A0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787-75A5-42BB-B679-116964E1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48B-2F58-41CF-A506-DB14C45B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01E-FB90-46E3-9AA6-807CD2EE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3B1-573C-4C82-A032-AA99690F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46A5-5C8F-485D-AF8C-19EDC78D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FB52-28EF-4FB0-87B0-DD6F7FD2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F8A0-0AC4-4305-9999-F4E905B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10E1-B9AA-4FCF-8E68-D1D33E9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E503-8A99-4716-9997-B0C54DA5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13CF-37A1-4B5D-971C-44399435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F441-9F9C-4A7B-9EA3-B8DAA550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8DF-3FE4-4A00-BD11-D2434E0D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773C-BA7B-4CDF-B55B-DA67026F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C4B7-8A29-414A-AFA5-2E942195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D59F-83A9-46C5-B99F-BA04F8D4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E53C-FF19-4F8E-971A-C4C710F8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E0D-8E41-44CC-A9EC-9F0F127C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C8C-E891-41AE-84F1-FEAA7184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CE1-FCE3-42B8-BB23-844FF3D9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E1B-9134-4730-9198-84EDD74D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DDD-B602-4CE5-A759-1CCB7AD6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C79-8DB2-48A9-A578-C3CE0063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6F0-D4B7-4C5B-AEB7-90E99C8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A48-81DA-48A4-93FA-5A51074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83BF-5CF8-42FC-ACB3-23DF8F0DD44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5521-BA0F-4329-A223-1929685366F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of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Charles  Padgett</cp:lastModifiedBy>
  <dcterms:modified xsi:type="dcterms:W3CDTF">2012-07-24T13:44:42Z</dcterms:modified>
  <cp:revision>65</cp:revision>
  <dc:subject/>
  <dc:title>QIES Year in Review - 2005</dc:title>
</cp:coreProperties>
</file>